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57040" y="430956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8836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5320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4936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05704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45320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4936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8836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57040" y="6629040"/>
            <a:ext cx="7086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4d4d4d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Viterbi School of Engineering       .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133720" y="0"/>
            <a:ext cx="7010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0"/>
            <a:ext cx="7086600" cy="244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057400" cy="246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Times New Roman"/>
              </a:rPr>
              <a:t>U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057400" y="0"/>
            <a:ext cx="72388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629400"/>
            <a:ext cx="2057400" cy="2286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2057400" cy="14032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 flipV="1">
            <a:off x="906480" y="60480"/>
            <a:ext cx="2332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8858160" y="6648480"/>
            <a:ext cx="196920" cy="193680"/>
            <a:chOff x="8858160" y="6648480"/>
            <a:chExt cx="196920" cy="193680"/>
          </a:xfrm>
        </p:grpSpPr>
        <p:sp>
          <p:nvSpPr>
            <p:cNvPr id="11" name=""/>
            <p:cNvSpPr/>
            <p:nvPr/>
          </p:nvSpPr>
          <p:spPr>
            <a:xfrm>
              <a:off x="8858160" y="6648480"/>
              <a:ext cx="196920" cy="1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9560" y="6648480"/>
              <a:ext cx="76320" cy="18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8966160" y="6689880"/>
              <a:ext cx="7632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formation Technology Go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the fundamental research and develop the software components for automating mega-scale fabr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e components with each other and with robots from other thru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372600" cy="6400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errelationships among the three research thrus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57200" y="1148760"/>
            <a:ext cx="8587800" cy="5154120"/>
            <a:chOff x="457200" y="1148760"/>
            <a:chExt cx="8587800" cy="5154120"/>
          </a:xfrm>
        </p:grpSpPr>
        <p:sp>
          <p:nvSpPr>
            <p:cNvPr id="259" name=""/>
            <p:cNvSpPr/>
            <p:nvPr/>
          </p:nvSpPr>
          <p:spPr>
            <a:xfrm>
              <a:off x="457200" y="3897360"/>
              <a:ext cx="1418040" cy="90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8640" y="3899160"/>
              <a:ext cx="1416600" cy="902520"/>
            </a:xfrm>
            <a:custGeom>
              <a:avLst/>
              <a:gdLst/>
              <a:ahLst/>
              <a:rect l="l" t="t" r="r" b="b"/>
              <a:pathLst>
                <a:path w="1551" h="474">
                  <a:moveTo>
                    <a:pt x="0" y="0"/>
                  </a:moveTo>
                  <a:lnTo>
                    <a:pt x="0" y="474"/>
                  </a:lnTo>
                  <a:lnTo>
                    <a:pt x="1356" y="474"/>
                  </a:lnTo>
                  <a:lnTo>
                    <a:pt x="1551" y="414"/>
                  </a:lnTo>
                  <a:lnTo>
                    <a:pt x="1551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3897360"/>
              <a:ext cx="1418040" cy="90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2880" y="3798000"/>
              <a:ext cx="1415880" cy="902880"/>
            </a:xfrm>
            <a:custGeom>
              <a:avLst/>
              <a:gdLst/>
              <a:ahLst/>
              <a:rect l="l" t="t" r="r" b="b"/>
              <a:pathLst>
                <a:path w="1551" h="474">
                  <a:moveTo>
                    <a:pt x="0" y="0"/>
                  </a:moveTo>
                  <a:lnTo>
                    <a:pt x="0" y="474"/>
                  </a:lnTo>
                  <a:lnTo>
                    <a:pt x="1356" y="474"/>
                  </a:lnTo>
                  <a:lnTo>
                    <a:pt x="1551" y="414"/>
                  </a:lnTo>
                  <a:lnTo>
                    <a:pt x="15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79840" y="4586760"/>
              <a:ext cx="178920" cy="114120"/>
            </a:xfrm>
            <a:custGeom>
              <a:avLst/>
              <a:gdLst/>
              <a:ahLst/>
              <a:rect l="l" t="t" r="r" b="b"/>
              <a:pathLst>
                <a:path w="195" h="60">
                  <a:moveTo>
                    <a:pt x="0" y="60"/>
                  </a:moveTo>
                  <a:lnTo>
                    <a:pt x="51" y="2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6" y="6"/>
                  </a:lnTo>
                  <a:lnTo>
                    <a:pt x="71" y="7"/>
                  </a:lnTo>
                  <a:lnTo>
                    <a:pt x="78" y="8"/>
                  </a:lnTo>
                  <a:lnTo>
                    <a:pt x="86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2" y="8"/>
                  </a:lnTo>
                  <a:lnTo>
                    <a:pt x="133" y="7"/>
                  </a:lnTo>
                  <a:lnTo>
                    <a:pt x="144" y="6"/>
                  </a:lnTo>
                  <a:lnTo>
                    <a:pt x="155" y="5"/>
                  </a:lnTo>
                  <a:lnTo>
                    <a:pt x="168" y="4"/>
                  </a:lnTo>
                  <a:lnTo>
                    <a:pt x="180" y="2"/>
                  </a:lnTo>
                  <a:lnTo>
                    <a:pt x="195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96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2880" y="3798000"/>
              <a:ext cx="1415880" cy="902880"/>
            </a:xfrm>
            <a:custGeom>
              <a:avLst/>
              <a:gdLst/>
              <a:ahLst/>
              <a:rect l="l" t="t" r="r" b="b"/>
              <a:pathLst>
                <a:path w="1551" h="474">
                  <a:moveTo>
                    <a:pt x="0" y="0"/>
                  </a:moveTo>
                  <a:lnTo>
                    <a:pt x="0" y="474"/>
                  </a:lnTo>
                  <a:lnTo>
                    <a:pt x="1356" y="474"/>
                  </a:lnTo>
                  <a:lnTo>
                    <a:pt x="1551" y="414"/>
                  </a:lnTo>
                  <a:lnTo>
                    <a:pt x="155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79840" y="4586760"/>
              <a:ext cx="178920" cy="114120"/>
            </a:xfrm>
            <a:custGeom>
              <a:avLst/>
              <a:gdLst/>
              <a:ahLst/>
              <a:rect l="l" t="t" r="r" b="b"/>
              <a:pathLst>
                <a:path w="195" h="60">
                  <a:moveTo>
                    <a:pt x="0" y="60"/>
                  </a:moveTo>
                  <a:lnTo>
                    <a:pt x="51" y="2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6" y="6"/>
                  </a:lnTo>
                  <a:lnTo>
                    <a:pt x="71" y="7"/>
                  </a:lnTo>
                  <a:lnTo>
                    <a:pt x="78" y="8"/>
                  </a:lnTo>
                  <a:lnTo>
                    <a:pt x="86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2" y="8"/>
                  </a:lnTo>
                  <a:lnTo>
                    <a:pt x="133" y="7"/>
                  </a:lnTo>
                  <a:lnTo>
                    <a:pt x="144" y="6"/>
                  </a:lnTo>
                  <a:lnTo>
                    <a:pt x="155" y="5"/>
                  </a:lnTo>
                  <a:lnTo>
                    <a:pt x="168" y="4"/>
                  </a:lnTo>
                  <a:lnTo>
                    <a:pt x="180" y="2"/>
                  </a:lnTo>
                  <a:lnTo>
                    <a:pt x="19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95840" y="2194560"/>
              <a:ext cx="749160" cy="700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95840" y="2194560"/>
              <a:ext cx="749160" cy="85320"/>
            </a:xfrm>
            <a:custGeom>
              <a:avLst/>
              <a:gdLst/>
              <a:ahLst/>
              <a:rect l="l" t="t" r="r" b="b"/>
              <a:pathLst>
                <a:path w="821" h="45">
                  <a:moveTo>
                    <a:pt x="0" y="0"/>
                  </a:moveTo>
                  <a:lnTo>
                    <a:pt x="79" y="45"/>
                  </a:lnTo>
                  <a:lnTo>
                    <a:pt x="741" y="45"/>
                  </a:lnTo>
                  <a:lnTo>
                    <a:pt x="8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e6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95840" y="2194560"/>
              <a:ext cx="71280" cy="700560"/>
            </a:xfrm>
            <a:custGeom>
              <a:avLst/>
              <a:gdLst/>
              <a:ahLst/>
              <a:rect l="l" t="t" r="r" b="b"/>
              <a:pathLst>
                <a:path w="79" h="368">
                  <a:moveTo>
                    <a:pt x="0" y="0"/>
                  </a:moveTo>
                  <a:lnTo>
                    <a:pt x="0" y="368"/>
                  </a:lnTo>
                  <a:lnTo>
                    <a:pt x="79" y="322"/>
                  </a:lnTo>
                  <a:lnTo>
                    <a:pt x="79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95840" y="2807640"/>
              <a:ext cx="749160" cy="87480"/>
            </a:xfrm>
            <a:custGeom>
              <a:avLst/>
              <a:gdLst/>
              <a:ahLst/>
              <a:rect l="l" t="t" r="r" b="b"/>
              <a:pathLst>
                <a:path w="821" h="46">
                  <a:moveTo>
                    <a:pt x="0" y="46"/>
                  </a:moveTo>
                  <a:lnTo>
                    <a:pt x="821" y="46"/>
                  </a:lnTo>
                  <a:lnTo>
                    <a:pt x="741" y="0"/>
                  </a:lnTo>
                  <a:lnTo>
                    <a:pt x="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96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72280" y="2194560"/>
              <a:ext cx="72720" cy="700560"/>
            </a:xfrm>
            <a:custGeom>
              <a:avLst/>
              <a:gdLst/>
              <a:ahLst/>
              <a:rect l="l" t="t" r="r" b="b"/>
              <a:pathLst>
                <a:path w="80" h="368">
                  <a:moveTo>
                    <a:pt x="80" y="368"/>
                  </a:moveTo>
                  <a:lnTo>
                    <a:pt x="80" y="0"/>
                  </a:lnTo>
                  <a:lnTo>
                    <a:pt x="0" y="45"/>
                  </a:lnTo>
                  <a:lnTo>
                    <a:pt x="0" y="322"/>
                  </a:lnTo>
                  <a:lnTo>
                    <a:pt x="80" y="368"/>
                  </a:lnTo>
                  <a:close/>
                </a:path>
              </a:pathLst>
            </a:custGeom>
            <a:solidFill>
              <a:srgbClr val="708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295840" y="2194560"/>
              <a:ext cx="749160" cy="7005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67120" y="2280240"/>
              <a:ext cx="604800" cy="5274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295840" y="2194560"/>
              <a:ext cx="7128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8295840" y="2807280"/>
              <a:ext cx="71280" cy="87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8972280" y="2807280"/>
              <a:ext cx="72720" cy="87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8972280" y="2194560"/>
              <a:ext cx="7272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9120" y="1249560"/>
              <a:ext cx="1582200" cy="802080"/>
            </a:xfrm>
            <a:custGeom>
              <a:avLst/>
              <a:gdLst/>
              <a:ahLst/>
              <a:rect l="l" t="t" r="r" b="b"/>
              <a:pathLst>
                <a:path w="1733" h="421">
                  <a:moveTo>
                    <a:pt x="434" y="0"/>
                  </a:moveTo>
                  <a:lnTo>
                    <a:pt x="0" y="421"/>
                  </a:lnTo>
                  <a:lnTo>
                    <a:pt x="1301" y="421"/>
                  </a:lnTo>
                  <a:lnTo>
                    <a:pt x="1733" y="0"/>
                  </a:lnTo>
                  <a:lnTo>
                    <a:pt x="434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200" y="1148760"/>
              <a:ext cx="1584360" cy="801720"/>
            </a:xfrm>
            <a:custGeom>
              <a:avLst/>
              <a:gdLst/>
              <a:ahLst/>
              <a:rect l="l" t="t" r="r" b="b"/>
              <a:pathLst>
                <a:path w="1733" h="421">
                  <a:moveTo>
                    <a:pt x="434" y="0"/>
                  </a:moveTo>
                  <a:lnTo>
                    <a:pt x="0" y="421"/>
                  </a:lnTo>
                  <a:lnTo>
                    <a:pt x="1301" y="421"/>
                  </a:lnTo>
                  <a:lnTo>
                    <a:pt x="1733" y="0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1200" y="1148760"/>
              <a:ext cx="1584360" cy="801720"/>
            </a:xfrm>
            <a:custGeom>
              <a:avLst/>
              <a:gdLst/>
              <a:ahLst/>
              <a:rect l="l" t="t" r="r" b="b"/>
              <a:pathLst>
                <a:path w="1733" h="421">
                  <a:moveTo>
                    <a:pt x="434" y="0"/>
                  </a:moveTo>
                  <a:lnTo>
                    <a:pt x="0" y="421"/>
                  </a:lnTo>
                  <a:lnTo>
                    <a:pt x="1301" y="421"/>
                  </a:lnTo>
                  <a:lnTo>
                    <a:pt x="1733" y="0"/>
                  </a:lnTo>
                  <a:lnTo>
                    <a:pt x="434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24480" y="4800240"/>
              <a:ext cx="1834560" cy="150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24480" y="4800240"/>
              <a:ext cx="1834560" cy="150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10160" y="4701240"/>
              <a:ext cx="1833120" cy="1504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10160" y="4701240"/>
              <a:ext cx="1833120" cy="15044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75160" y="1990800"/>
              <a:ext cx="1834920" cy="150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75160" y="1990800"/>
              <a:ext cx="1834920" cy="150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60840" y="1893600"/>
              <a:ext cx="1833120" cy="1504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60840" y="1893600"/>
              <a:ext cx="1833120" cy="15044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7320" y="1990800"/>
              <a:ext cx="1834560" cy="150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57320" y="1990800"/>
              <a:ext cx="1834560" cy="150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43000" y="1893600"/>
              <a:ext cx="1833120" cy="1504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43000" y="1893600"/>
              <a:ext cx="1833120" cy="15044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06520" y="2076120"/>
              <a:ext cx="121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tegrat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07960" y="243828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ftwar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07240" y="2800440"/>
              <a:ext cx="97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07160" y="2148840"/>
              <a:ext cx="9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dula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45080" y="2514240"/>
              <a:ext cx="168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32920" y="2880000"/>
              <a:ext cx="130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amp; 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74400" y="4884120"/>
              <a:ext cx="121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trud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74400" y="5247720"/>
              <a:ext cx="103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58360" y="5247720"/>
              <a:ext cx="24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75120" y="5608080"/>
              <a:ext cx="126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abr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56240" y="1365840"/>
              <a:ext cx="819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rchitectur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58760" y="1565640"/>
              <a:ext cx="43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59120" y="1592640"/>
              <a:ext cx="1000080" cy="14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18880" y="1592640"/>
              <a:ext cx="81720" cy="300960"/>
            </a:xfrm>
            <a:custGeom>
              <a:avLst/>
              <a:gdLst/>
              <a:ahLst/>
              <a:rect l="l" t="t" r="r" b="b"/>
              <a:pathLst>
                <a:path w="91" h="158">
                  <a:moveTo>
                    <a:pt x="57" y="0"/>
                  </a:moveTo>
                  <a:lnTo>
                    <a:pt x="57" y="114"/>
                  </a:lnTo>
                  <a:lnTo>
                    <a:pt x="33" y="114"/>
                  </a:lnTo>
                  <a:lnTo>
                    <a:pt x="33" y="0"/>
                  </a:lnTo>
                  <a:lnTo>
                    <a:pt x="57" y="0"/>
                  </a:lnTo>
                  <a:close/>
                  <a:moveTo>
                    <a:pt x="91" y="105"/>
                  </a:moveTo>
                  <a:lnTo>
                    <a:pt x="46" y="158"/>
                  </a:lnTo>
                  <a:lnTo>
                    <a:pt x="0" y="105"/>
                  </a:lnTo>
                  <a:lnTo>
                    <a:pt x="91" y="105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76480" y="2043720"/>
              <a:ext cx="1584360" cy="98640"/>
            </a:xfrm>
            <a:custGeom>
              <a:avLst/>
              <a:gdLst/>
              <a:ahLst/>
              <a:rect l="l" t="t" r="r" b="b"/>
              <a:pathLst>
                <a:path w="1734" h="52">
                  <a:moveTo>
                    <a:pt x="0" y="19"/>
                  </a:moveTo>
                  <a:lnTo>
                    <a:pt x="1657" y="19"/>
                  </a:lnTo>
                  <a:lnTo>
                    <a:pt x="1657" y="32"/>
                  </a:lnTo>
                  <a:lnTo>
                    <a:pt x="0" y="32"/>
                  </a:lnTo>
                  <a:lnTo>
                    <a:pt x="0" y="19"/>
                  </a:lnTo>
                  <a:close/>
                  <a:moveTo>
                    <a:pt x="1642" y="0"/>
                  </a:moveTo>
                  <a:lnTo>
                    <a:pt x="1734" y="26"/>
                  </a:lnTo>
                  <a:lnTo>
                    <a:pt x="1642" y="52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76480" y="2846160"/>
              <a:ext cx="1584360" cy="100440"/>
            </a:xfrm>
            <a:custGeom>
              <a:avLst/>
              <a:gdLst/>
              <a:ahLst/>
              <a:rect l="l" t="t" r="r" b="b"/>
              <a:pathLst>
                <a:path w="1734" h="53">
                  <a:moveTo>
                    <a:pt x="0" y="19"/>
                  </a:moveTo>
                  <a:lnTo>
                    <a:pt x="1657" y="19"/>
                  </a:lnTo>
                  <a:lnTo>
                    <a:pt x="1657" y="33"/>
                  </a:lnTo>
                  <a:lnTo>
                    <a:pt x="0" y="33"/>
                  </a:lnTo>
                  <a:lnTo>
                    <a:pt x="0" y="19"/>
                  </a:lnTo>
                  <a:close/>
                  <a:moveTo>
                    <a:pt x="1642" y="0"/>
                  </a:moveTo>
                  <a:lnTo>
                    <a:pt x="1734" y="26"/>
                  </a:lnTo>
                  <a:lnTo>
                    <a:pt x="1642" y="53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76480" y="3247920"/>
              <a:ext cx="1584360" cy="98640"/>
            </a:xfrm>
            <a:custGeom>
              <a:avLst/>
              <a:gdLst/>
              <a:ahLst/>
              <a:rect l="l" t="t" r="r" b="b"/>
              <a:pathLst>
                <a:path w="1734" h="52">
                  <a:moveTo>
                    <a:pt x="0" y="19"/>
                  </a:moveTo>
                  <a:lnTo>
                    <a:pt x="1657" y="19"/>
                  </a:lnTo>
                  <a:lnTo>
                    <a:pt x="1657" y="32"/>
                  </a:lnTo>
                  <a:lnTo>
                    <a:pt x="0" y="32"/>
                  </a:lnTo>
                  <a:lnTo>
                    <a:pt x="0" y="19"/>
                  </a:lnTo>
                  <a:close/>
                  <a:moveTo>
                    <a:pt x="1642" y="0"/>
                  </a:moveTo>
                  <a:lnTo>
                    <a:pt x="1734" y="26"/>
                  </a:lnTo>
                  <a:lnTo>
                    <a:pt x="1642" y="52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43240" y="1865160"/>
              <a:ext cx="76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stics p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10400" y="53733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dictiv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09320" y="5552640"/>
              <a:ext cx="71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42520" y="3066840"/>
              <a:ext cx="84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spection p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77720" y="3398040"/>
              <a:ext cx="1440" cy="39996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709800" y="3798000"/>
              <a:ext cx="2167560" cy="18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68400" y="3398040"/>
              <a:ext cx="83520" cy="399960"/>
            </a:xfrm>
            <a:custGeom>
              <a:avLst/>
              <a:gdLst/>
              <a:ahLst/>
              <a:rect l="l" t="t" r="r" b="b"/>
              <a:pathLst>
                <a:path w="91" h="210">
                  <a:moveTo>
                    <a:pt x="33" y="210"/>
                  </a:moveTo>
                  <a:lnTo>
                    <a:pt x="33" y="43"/>
                  </a:lnTo>
                  <a:lnTo>
                    <a:pt x="57" y="43"/>
                  </a:lnTo>
                  <a:lnTo>
                    <a:pt x="57" y="210"/>
                  </a:lnTo>
                  <a:lnTo>
                    <a:pt x="33" y="210"/>
                  </a:lnTo>
                  <a:close/>
                  <a:moveTo>
                    <a:pt x="0" y="52"/>
                  </a:moveTo>
                  <a:lnTo>
                    <a:pt x="46" y="0"/>
                  </a:lnTo>
                  <a:lnTo>
                    <a:pt x="91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5961960" y="3928320"/>
              <a:ext cx="76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sory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28280" y="3398040"/>
              <a:ext cx="1440" cy="170496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459600" y="4200120"/>
              <a:ext cx="2667960" cy="14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17480" y="3398040"/>
              <a:ext cx="83880" cy="802080"/>
            </a:xfrm>
            <a:custGeom>
              <a:avLst/>
              <a:gdLst/>
              <a:ahLst/>
              <a:rect l="l" t="t" r="r" b="b"/>
              <a:pathLst>
                <a:path w="91" h="421">
                  <a:moveTo>
                    <a:pt x="32" y="421"/>
                  </a:moveTo>
                  <a:lnTo>
                    <a:pt x="32" y="43"/>
                  </a:lnTo>
                  <a:lnTo>
                    <a:pt x="56" y="43"/>
                  </a:lnTo>
                  <a:lnTo>
                    <a:pt x="56" y="421"/>
                  </a:lnTo>
                  <a:lnTo>
                    <a:pt x="32" y="421"/>
                  </a:lnTo>
                  <a:close/>
                  <a:moveTo>
                    <a:pt x="0" y="52"/>
                  </a:moveTo>
                  <a:lnTo>
                    <a:pt x="45" y="0"/>
                  </a:lnTo>
                  <a:lnTo>
                    <a:pt x="91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0440" y="4070520"/>
              <a:ext cx="94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pply Dispat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9720" y="4339440"/>
              <a:ext cx="10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ed Video Lo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43280" y="5051520"/>
              <a:ext cx="584640" cy="100800"/>
            </a:xfrm>
            <a:custGeom>
              <a:avLst/>
              <a:gdLst/>
              <a:ahLst/>
              <a:rect l="l" t="t" r="r" b="b"/>
              <a:pathLst>
                <a:path w="638" h="53">
                  <a:moveTo>
                    <a:pt x="638" y="33"/>
                  </a:moveTo>
                  <a:lnTo>
                    <a:pt x="75" y="33"/>
                  </a:lnTo>
                  <a:lnTo>
                    <a:pt x="75" y="19"/>
                  </a:lnTo>
                  <a:lnTo>
                    <a:pt x="638" y="19"/>
                  </a:lnTo>
                  <a:lnTo>
                    <a:pt x="638" y="33"/>
                  </a:lnTo>
                  <a:close/>
                  <a:moveTo>
                    <a:pt x="91" y="53"/>
                  </a:moveTo>
                  <a:lnTo>
                    <a:pt x="0" y="27"/>
                  </a:lnTo>
                  <a:lnTo>
                    <a:pt x="91" y="0"/>
                  </a:lnTo>
                  <a:lnTo>
                    <a:pt x="91" y="53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2460240" y="5103000"/>
              <a:ext cx="1249920" cy="18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17760" y="3398040"/>
              <a:ext cx="83880" cy="1704960"/>
            </a:xfrm>
            <a:custGeom>
              <a:avLst/>
              <a:gdLst/>
              <a:ahLst/>
              <a:rect l="l" t="t" r="r" b="b"/>
              <a:pathLst>
                <a:path w="91" h="895">
                  <a:moveTo>
                    <a:pt x="33" y="895"/>
                  </a:moveTo>
                  <a:lnTo>
                    <a:pt x="33" y="43"/>
                  </a:lnTo>
                  <a:lnTo>
                    <a:pt x="56" y="43"/>
                  </a:lnTo>
                  <a:lnTo>
                    <a:pt x="56" y="895"/>
                  </a:lnTo>
                  <a:lnTo>
                    <a:pt x="33" y="895"/>
                  </a:lnTo>
                  <a:close/>
                  <a:moveTo>
                    <a:pt x="0" y="52"/>
                  </a:moveTo>
                  <a:lnTo>
                    <a:pt x="45" y="0"/>
                  </a:lnTo>
                  <a:lnTo>
                    <a:pt x="91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58800" y="5198400"/>
              <a:ext cx="107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ucture design &amp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59520" y="537948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forman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60240" y="555660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43280" y="5804280"/>
              <a:ext cx="1500120" cy="14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03440" y="3398040"/>
              <a:ext cx="82440" cy="2405880"/>
            </a:xfrm>
            <a:custGeom>
              <a:avLst/>
              <a:gdLst/>
              <a:ahLst/>
              <a:rect l="l" t="t" r="r" b="b"/>
              <a:pathLst>
                <a:path w="92" h="1263">
                  <a:moveTo>
                    <a:pt x="33" y="1263"/>
                  </a:moveTo>
                  <a:lnTo>
                    <a:pt x="33" y="43"/>
                  </a:lnTo>
                  <a:lnTo>
                    <a:pt x="57" y="43"/>
                  </a:lnTo>
                  <a:lnTo>
                    <a:pt x="57" y="1263"/>
                  </a:lnTo>
                  <a:lnTo>
                    <a:pt x="33" y="1263"/>
                  </a:lnTo>
                  <a:close/>
                  <a:moveTo>
                    <a:pt x="0" y="52"/>
                  </a:moveTo>
                  <a:lnTo>
                    <a:pt x="46" y="0"/>
                  </a:lnTo>
                  <a:lnTo>
                    <a:pt x="92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09680" y="5754600"/>
              <a:ext cx="1500120" cy="100800"/>
            </a:xfrm>
            <a:custGeom>
              <a:avLst/>
              <a:gdLst/>
              <a:ahLst/>
              <a:rect l="l" t="t" r="r" b="b"/>
              <a:pathLst>
                <a:path w="1642" h="53">
                  <a:moveTo>
                    <a:pt x="0" y="19"/>
                  </a:moveTo>
                  <a:lnTo>
                    <a:pt x="1565" y="19"/>
                  </a:lnTo>
                  <a:lnTo>
                    <a:pt x="1565" y="33"/>
                  </a:lnTo>
                  <a:lnTo>
                    <a:pt x="0" y="33"/>
                  </a:lnTo>
                  <a:lnTo>
                    <a:pt x="0" y="19"/>
                  </a:lnTo>
                  <a:close/>
                  <a:moveTo>
                    <a:pt x="1551" y="0"/>
                  </a:moveTo>
                  <a:lnTo>
                    <a:pt x="1642" y="26"/>
                  </a:lnTo>
                  <a:lnTo>
                    <a:pt x="1551" y="53"/>
                  </a:lnTo>
                  <a:lnTo>
                    <a:pt x="1551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58160" y="467280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forman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58520" y="485172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tric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209680" y="3397680"/>
              <a:ext cx="1440" cy="240588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27480" y="356976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isual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93960" y="2444040"/>
              <a:ext cx="1001520" cy="100800"/>
            </a:xfrm>
            <a:custGeom>
              <a:avLst/>
              <a:gdLst/>
              <a:ahLst/>
              <a:rect l="l" t="t" r="r" b="b"/>
              <a:pathLst>
                <a:path w="1094" h="53">
                  <a:moveTo>
                    <a:pt x="0" y="19"/>
                  </a:moveTo>
                  <a:lnTo>
                    <a:pt x="1018" y="19"/>
                  </a:lnTo>
                  <a:lnTo>
                    <a:pt x="1018" y="33"/>
                  </a:lnTo>
                  <a:lnTo>
                    <a:pt x="0" y="33"/>
                  </a:lnTo>
                  <a:lnTo>
                    <a:pt x="0" y="19"/>
                  </a:lnTo>
                  <a:close/>
                  <a:moveTo>
                    <a:pt x="1003" y="0"/>
                  </a:moveTo>
                  <a:lnTo>
                    <a:pt x="1094" y="27"/>
                  </a:lnTo>
                  <a:lnTo>
                    <a:pt x="1003" y="53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93960" y="2646000"/>
              <a:ext cx="1001520" cy="98640"/>
            </a:xfrm>
            <a:custGeom>
              <a:avLst/>
              <a:gdLst/>
              <a:ahLst/>
              <a:rect l="l" t="t" r="r" b="b"/>
              <a:pathLst>
                <a:path w="1094" h="52">
                  <a:moveTo>
                    <a:pt x="1094" y="32"/>
                  </a:moveTo>
                  <a:lnTo>
                    <a:pt x="74" y="32"/>
                  </a:lnTo>
                  <a:lnTo>
                    <a:pt x="74" y="19"/>
                  </a:lnTo>
                  <a:lnTo>
                    <a:pt x="1094" y="19"/>
                  </a:lnTo>
                  <a:lnTo>
                    <a:pt x="1094" y="32"/>
                  </a:lnTo>
                  <a:close/>
                  <a:moveTo>
                    <a:pt x="91" y="52"/>
                  </a:moveTo>
                  <a:lnTo>
                    <a:pt x="0" y="26"/>
                  </a:lnTo>
                  <a:lnTo>
                    <a:pt x="91" y="0"/>
                  </a:lnTo>
                  <a:lnTo>
                    <a:pt x="91" y="52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94840" y="236556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C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94480" y="254484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78280" y="196416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bo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79000" y="223272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78280" y="286668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rdwar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77560" y="313560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1292040" y="3097440"/>
              <a:ext cx="750960" cy="14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49920" y="3097440"/>
              <a:ext cx="83880" cy="700560"/>
            </a:xfrm>
            <a:custGeom>
              <a:avLst/>
              <a:gdLst/>
              <a:ahLst/>
              <a:rect l="l" t="t" r="r" b="b"/>
              <a:pathLst>
                <a:path w="91" h="368">
                  <a:moveTo>
                    <a:pt x="56" y="0"/>
                  </a:moveTo>
                  <a:lnTo>
                    <a:pt x="56" y="324"/>
                  </a:lnTo>
                  <a:lnTo>
                    <a:pt x="32" y="324"/>
                  </a:lnTo>
                  <a:lnTo>
                    <a:pt x="32" y="0"/>
                  </a:lnTo>
                  <a:lnTo>
                    <a:pt x="56" y="0"/>
                  </a:lnTo>
                  <a:close/>
                  <a:moveTo>
                    <a:pt x="91" y="316"/>
                  </a:moveTo>
                  <a:lnTo>
                    <a:pt x="45" y="368"/>
                  </a:lnTo>
                  <a:lnTo>
                    <a:pt x="0" y="316"/>
                  </a:lnTo>
                  <a:lnTo>
                    <a:pt x="91" y="316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43240" y="2666880"/>
              <a:ext cx="88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sembly pla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76480" y="2444040"/>
              <a:ext cx="1584360" cy="100800"/>
            </a:xfrm>
            <a:custGeom>
              <a:avLst/>
              <a:gdLst/>
              <a:ahLst/>
              <a:rect l="l" t="t" r="r" b="b"/>
              <a:pathLst>
                <a:path w="1734" h="53">
                  <a:moveTo>
                    <a:pt x="0" y="19"/>
                  </a:moveTo>
                  <a:lnTo>
                    <a:pt x="1657" y="19"/>
                  </a:lnTo>
                  <a:lnTo>
                    <a:pt x="1657" y="33"/>
                  </a:lnTo>
                  <a:lnTo>
                    <a:pt x="0" y="33"/>
                  </a:lnTo>
                  <a:lnTo>
                    <a:pt x="0" y="19"/>
                  </a:lnTo>
                  <a:close/>
                  <a:moveTo>
                    <a:pt x="1642" y="0"/>
                  </a:moveTo>
                  <a:lnTo>
                    <a:pt x="1734" y="27"/>
                  </a:lnTo>
                  <a:lnTo>
                    <a:pt x="1642" y="53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42520" y="2265120"/>
              <a:ext cx="94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zzle path p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7238880" cy="380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 Classes of Softwa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33720" y="1752480"/>
            <a:ext cx="5275800" cy="3962520"/>
            <a:chOff x="2133720" y="1752480"/>
            <a:chExt cx="5275800" cy="3962520"/>
          </a:xfrm>
        </p:grpSpPr>
        <p:sp>
          <p:nvSpPr>
            <p:cNvPr id="54" name=""/>
            <p:cNvSpPr/>
            <p:nvPr/>
          </p:nvSpPr>
          <p:spPr>
            <a:xfrm>
              <a:off x="2133720" y="3352680"/>
              <a:ext cx="1828800" cy="76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de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6920" y="1752480"/>
              <a:ext cx="1828800" cy="76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g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76920" y="3352680"/>
              <a:ext cx="1828800" cy="76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lan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76920" y="4952880"/>
              <a:ext cx="1828800" cy="76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ecu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" name=""/>
            <p:cNvCxnSpPr>
              <a:stCxn id="55" idx="2"/>
              <a:endCxn id="56" idx="0"/>
            </p:cNvCxnSpPr>
            <p:nvPr/>
          </p:nvCxnSpPr>
          <p:spPr>
            <a:xfrm>
              <a:off x="5790960" y="2514600"/>
              <a:ext cx="108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2"/>
              <a:endCxn id="57" idx="0"/>
            </p:cNvCxnSpPr>
            <p:nvPr/>
          </p:nvCxnSpPr>
          <p:spPr>
            <a:xfrm>
              <a:off x="5790960" y="4114800"/>
              <a:ext cx="108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7" idx="3"/>
              <a:endCxn id="56" idx="3"/>
            </p:cNvCxnSpPr>
            <p:nvPr/>
          </p:nvCxnSpPr>
          <p:spPr>
            <a:xfrm flipV="1">
              <a:off x="6705720" y="3732840"/>
              <a:ext cx="2160" cy="1600920"/>
            </a:xfrm>
            <a:prstGeom prst="curvedConnector5">
              <a:avLst>
                <a:gd name="adj1" fmla="val 21000000"/>
                <a:gd name="adj2" fmla="val 50000"/>
                <a:gd name="adj3" fmla="val 21000000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57" idx="3"/>
              <a:endCxn id="55" idx="3"/>
            </p:cNvCxnSpPr>
            <p:nvPr/>
          </p:nvCxnSpPr>
          <p:spPr>
            <a:xfrm flipV="1">
              <a:off x="6705720" y="2133000"/>
              <a:ext cx="2160" cy="3201120"/>
            </a:xfrm>
            <a:prstGeom prst="curvedConnector5">
              <a:avLst>
                <a:gd name="adj1" fmla="val 39100000"/>
                <a:gd name="adj2" fmla="val 49994"/>
                <a:gd name="adj3" fmla="val 39100000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4" idx="3"/>
              <a:endCxn id="55" idx="1"/>
            </p:cNvCxnSpPr>
            <p:nvPr/>
          </p:nvCxnSpPr>
          <p:spPr>
            <a:xfrm flipV="1">
              <a:off x="3962520" y="2132640"/>
              <a:ext cx="915120" cy="1600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3" name=""/>
            <p:cNvCxnSpPr>
              <a:stCxn id="54" idx="3"/>
              <a:endCxn id="56" idx="1"/>
            </p:cNvCxnSpPr>
            <p:nvPr/>
          </p:nvCxnSpPr>
          <p:spPr>
            <a:xfrm>
              <a:off x="3962520" y="3733200"/>
              <a:ext cx="91512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4" name=""/>
            <p:cNvCxnSpPr>
              <a:stCxn id="54" idx="3"/>
              <a:endCxn id="57" idx="1"/>
            </p:cNvCxnSpPr>
            <p:nvPr/>
          </p:nvCxnSpPr>
          <p:spPr>
            <a:xfrm>
              <a:off x="3962520" y="3733200"/>
              <a:ext cx="915120" cy="16009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5" name=""/>
            <p:cNvCxnSpPr/>
            <p:nvPr/>
          </p:nvCxnSpPr>
          <p:spPr>
            <a:xfrm flipV="1">
              <a:off x="6705720" y="2132640"/>
              <a:ext cx="2160" cy="1600920"/>
            </a:xfrm>
            <a:prstGeom prst="curvedConnector5">
              <a:avLst>
                <a:gd name="adj1" fmla="val 21000000"/>
                <a:gd name="adj2" fmla="val 50000"/>
                <a:gd name="adj3" fmla="val 21000000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search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5002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7400" y="1219320"/>
            <a:ext cx="708660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Layering various geometri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579132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38280" y="3657600"/>
            <a:ext cx="518184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owel path plann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60120" y="3839040"/>
            <a:ext cx="4495320" cy="2389320"/>
            <a:chOff x="2760120" y="3839040"/>
            <a:chExt cx="4495320" cy="2389320"/>
          </a:xfrm>
        </p:grpSpPr>
        <p:grpSp>
          <p:nvGrpSpPr>
            <p:cNvPr id="74" name=""/>
            <p:cNvGrpSpPr/>
            <p:nvPr/>
          </p:nvGrpSpPr>
          <p:grpSpPr>
            <a:xfrm>
              <a:off x="2810880" y="4347360"/>
              <a:ext cx="851400" cy="460080"/>
              <a:chOff x="2810880" y="4347360"/>
              <a:chExt cx="851400" cy="460080"/>
            </a:xfrm>
          </p:grpSpPr>
          <p:sp>
            <p:nvSpPr>
              <p:cNvPr id="75" name=""/>
              <p:cNvSpPr/>
              <p:nvPr/>
            </p:nvSpPr>
            <p:spPr>
              <a:xfrm>
                <a:off x="2810880" y="4347360"/>
                <a:ext cx="851400" cy="460080"/>
              </a:xfrm>
              <a:custGeom>
                <a:avLst/>
                <a:gdLst/>
                <a:ahLst/>
                <a:rect l="l" t="t" r="r" b="b"/>
                <a:pathLst>
                  <a:path w="1395" h="1155">
                    <a:moveTo>
                      <a:pt x="0" y="0"/>
                    </a:moveTo>
                    <a:lnTo>
                      <a:pt x="1395" y="0"/>
                    </a:lnTo>
                    <a:lnTo>
                      <a:pt x="1395" y="1155"/>
                    </a:lnTo>
                    <a:lnTo>
                      <a:pt x="750" y="510"/>
                    </a:lnTo>
                    <a:lnTo>
                      <a:pt x="30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57560" y="4470480"/>
                <a:ext cx="128520" cy="914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59200">
                <a:off x="3189240" y="4550400"/>
                <a:ext cx="177840" cy="33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316920" y="4354200"/>
              <a:ext cx="851040" cy="459360"/>
              <a:chOff x="6316920" y="4354200"/>
              <a:chExt cx="851040" cy="459360"/>
            </a:xfrm>
          </p:grpSpPr>
          <p:sp>
            <p:nvSpPr>
              <p:cNvPr id="79" name=""/>
              <p:cNvSpPr/>
              <p:nvPr/>
            </p:nvSpPr>
            <p:spPr>
              <a:xfrm>
                <a:off x="6316920" y="4354200"/>
                <a:ext cx="851040" cy="459360"/>
              </a:xfrm>
              <a:custGeom>
                <a:avLst/>
                <a:gdLst/>
                <a:ahLst/>
                <a:rect l="l" t="t" r="r" b="b"/>
                <a:pathLst>
                  <a:path w="1395" h="1155">
                    <a:moveTo>
                      <a:pt x="0" y="0"/>
                    </a:moveTo>
                    <a:lnTo>
                      <a:pt x="1395" y="0"/>
                    </a:lnTo>
                    <a:lnTo>
                      <a:pt x="1395" y="1155"/>
                    </a:lnTo>
                    <a:lnTo>
                      <a:pt x="750" y="510"/>
                    </a:lnTo>
                    <a:lnTo>
                      <a:pt x="30" y="1125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20920" y="4516200"/>
                <a:ext cx="128880" cy="914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656760" y="4477320"/>
                <a:ext cx="129960" cy="914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516400">
                <a:off x="6733080" y="4596480"/>
                <a:ext cx="177480" cy="331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760120" y="5380920"/>
              <a:ext cx="851400" cy="460080"/>
              <a:chOff x="2760120" y="5380920"/>
              <a:chExt cx="851400" cy="460080"/>
            </a:xfrm>
          </p:grpSpPr>
          <p:sp>
            <p:nvSpPr>
              <p:cNvPr id="84" name=""/>
              <p:cNvSpPr/>
              <p:nvPr/>
            </p:nvSpPr>
            <p:spPr>
              <a:xfrm>
                <a:off x="2760120" y="5380920"/>
                <a:ext cx="851400" cy="460080"/>
              </a:xfrm>
              <a:custGeom>
                <a:avLst/>
                <a:gdLst/>
                <a:ahLst/>
                <a:rect l="l" t="t" r="r" b="b"/>
                <a:pathLst>
                  <a:path w="1395" h="1155">
                    <a:moveTo>
                      <a:pt x="0" y="0"/>
                    </a:moveTo>
                    <a:lnTo>
                      <a:pt x="1395" y="0"/>
                    </a:lnTo>
                    <a:lnTo>
                      <a:pt x="1395" y="1155"/>
                    </a:lnTo>
                    <a:lnTo>
                      <a:pt x="750" y="510"/>
                    </a:lnTo>
                    <a:lnTo>
                      <a:pt x="30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106800" y="5504040"/>
                <a:ext cx="128520" cy="918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9159200">
                <a:off x="3138480" y="5583960"/>
                <a:ext cx="177840" cy="33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3958200" y="5383440"/>
              <a:ext cx="851760" cy="460080"/>
              <a:chOff x="3958200" y="5383440"/>
              <a:chExt cx="851760" cy="460080"/>
            </a:xfrm>
          </p:grpSpPr>
          <p:sp>
            <p:nvSpPr>
              <p:cNvPr id="88" name=""/>
              <p:cNvSpPr/>
              <p:nvPr/>
            </p:nvSpPr>
            <p:spPr>
              <a:xfrm>
                <a:off x="3958200" y="5383440"/>
                <a:ext cx="851760" cy="460080"/>
              </a:xfrm>
              <a:custGeom>
                <a:avLst/>
                <a:gdLst/>
                <a:ahLst/>
                <a:rect l="l" t="t" r="r" b="b"/>
                <a:pathLst>
                  <a:path w="1395" h="1155">
                    <a:moveTo>
                      <a:pt x="0" y="0"/>
                    </a:moveTo>
                    <a:lnTo>
                      <a:pt x="1395" y="0"/>
                    </a:lnTo>
                    <a:lnTo>
                      <a:pt x="1395" y="1155"/>
                    </a:lnTo>
                    <a:lnTo>
                      <a:pt x="750" y="510"/>
                    </a:lnTo>
                    <a:lnTo>
                      <a:pt x="30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304880" y="5506560"/>
                <a:ext cx="128880" cy="918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397400" y="5563800"/>
                <a:ext cx="128880" cy="918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9159200">
                <a:off x="4438080" y="5640480"/>
                <a:ext cx="177840" cy="33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198040" y="5377680"/>
              <a:ext cx="852480" cy="459720"/>
              <a:chOff x="5198040" y="5377680"/>
              <a:chExt cx="852480" cy="459720"/>
            </a:xfrm>
          </p:grpSpPr>
          <p:sp>
            <p:nvSpPr>
              <p:cNvPr id="93" name=""/>
              <p:cNvSpPr/>
              <p:nvPr/>
            </p:nvSpPr>
            <p:spPr>
              <a:xfrm>
                <a:off x="5198040" y="5377680"/>
                <a:ext cx="852480" cy="459720"/>
              </a:xfrm>
              <a:custGeom>
                <a:avLst/>
                <a:gdLst/>
                <a:ahLst/>
                <a:rect l="l" t="t" r="r" b="b"/>
                <a:pathLst>
                  <a:path w="1395" h="1155">
                    <a:moveTo>
                      <a:pt x="0" y="0"/>
                    </a:moveTo>
                    <a:lnTo>
                      <a:pt x="1395" y="0"/>
                    </a:lnTo>
                    <a:lnTo>
                      <a:pt x="1395" y="1155"/>
                    </a:lnTo>
                    <a:lnTo>
                      <a:pt x="750" y="510"/>
                    </a:lnTo>
                    <a:lnTo>
                      <a:pt x="30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45080" y="5500440"/>
                <a:ext cx="128880" cy="921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637960" y="5557680"/>
                <a:ext cx="128880" cy="921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000000">
                <a:off x="5628600" y="5652360"/>
                <a:ext cx="176760" cy="33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370920" y="5389560"/>
              <a:ext cx="851400" cy="459360"/>
              <a:chOff x="6370920" y="5389560"/>
              <a:chExt cx="851400" cy="459360"/>
            </a:xfrm>
          </p:grpSpPr>
          <p:sp>
            <p:nvSpPr>
              <p:cNvPr id="98" name=""/>
              <p:cNvSpPr/>
              <p:nvPr/>
            </p:nvSpPr>
            <p:spPr>
              <a:xfrm>
                <a:off x="6370920" y="5389560"/>
                <a:ext cx="851400" cy="459360"/>
              </a:xfrm>
              <a:custGeom>
                <a:avLst/>
                <a:gdLst/>
                <a:ahLst/>
                <a:rect l="l" t="t" r="r" b="b"/>
                <a:pathLst>
                  <a:path w="1395" h="1155">
                    <a:moveTo>
                      <a:pt x="0" y="0"/>
                    </a:moveTo>
                    <a:lnTo>
                      <a:pt x="1395" y="0"/>
                    </a:lnTo>
                    <a:lnTo>
                      <a:pt x="1395" y="1155"/>
                    </a:lnTo>
                    <a:lnTo>
                      <a:pt x="750" y="510"/>
                    </a:lnTo>
                    <a:lnTo>
                      <a:pt x="30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17600" y="5511960"/>
                <a:ext cx="128520" cy="921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8900000">
                <a:off x="6843240" y="5527800"/>
                <a:ext cx="114120" cy="1029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580000">
                <a:off x="6791040" y="5634360"/>
                <a:ext cx="178200" cy="331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4100760" y="4740840"/>
              <a:ext cx="199908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91760" y="4525560"/>
              <a:ext cx="199980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320000" y="4304880"/>
              <a:ext cx="203040" cy="434160"/>
              <a:chOff x="4320000" y="4304880"/>
              <a:chExt cx="203040" cy="43416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4320000" y="4471200"/>
                <a:ext cx="203040" cy="267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61760" y="4304880"/>
                <a:ext cx="122760" cy="167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843080" y="4089960"/>
              <a:ext cx="203040" cy="434160"/>
              <a:chOff x="4843080" y="4089960"/>
              <a:chExt cx="203040" cy="434160"/>
            </a:xfrm>
          </p:grpSpPr>
          <p:sp>
            <p:nvSpPr>
              <p:cNvPr id="108" name=""/>
              <p:cNvSpPr/>
              <p:nvPr/>
            </p:nvSpPr>
            <p:spPr>
              <a:xfrm flipV="1">
                <a:off x="4843080" y="4256280"/>
                <a:ext cx="203040" cy="267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884840" y="4089960"/>
                <a:ext cx="122760" cy="167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424840" y="4304880"/>
              <a:ext cx="203760" cy="434160"/>
              <a:chOff x="5424840" y="4304880"/>
              <a:chExt cx="203760" cy="434160"/>
            </a:xfrm>
          </p:grpSpPr>
          <p:sp>
            <p:nvSpPr>
              <p:cNvPr id="111" name=""/>
              <p:cNvSpPr/>
              <p:nvPr/>
            </p:nvSpPr>
            <p:spPr>
              <a:xfrm flipV="1">
                <a:off x="5424840" y="4471200"/>
                <a:ext cx="203760" cy="267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66600" y="4304880"/>
                <a:ext cx="123120" cy="167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4564080" y="3839040"/>
              <a:ext cx="1071720" cy="17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tate + mo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9440" y="4974480"/>
              <a:ext cx="1611360" cy="17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a) Lift-Rotate-Plung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85000" y="6049800"/>
              <a:ext cx="1611000" cy="17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b) Drag-and-pus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817320" y="4227480"/>
              <a:ext cx="16848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74480" y="4030200"/>
              <a:ext cx="480960" cy="17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02320" y="4089960"/>
              <a:ext cx="472320" cy="15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" rIns="504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412520" y="4125600"/>
              <a:ext cx="720" cy="155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526000" y="4125600"/>
              <a:ext cx="720" cy="155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4840" y="4107960"/>
              <a:ext cx="236160" cy="15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" rIns="54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f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39640" y="45262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98680" y="4561920"/>
              <a:ext cx="236160" cy="15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" rIns="54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97520" y="4890600"/>
              <a:ext cx="708480" cy="15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" rIns="54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ide trow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3264840" y="4603320"/>
              <a:ext cx="194040" cy="31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531760" y="5663880"/>
              <a:ext cx="236880" cy="218880"/>
              <a:chOff x="5531760" y="5663880"/>
              <a:chExt cx="236880" cy="218880"/>
            </a:xfrm>
          </p:grpSpPr>
          <p:sp>
            <p:nvSpPr>
              <p:cNvPr id="127" name=""/>
              <p:cNvSpPr/>
              <p:nvPr/>
            </p:nvSpPr>
            <p:spPr>
              <a:xfrm flipH="1" flipV="1" rot="1500000">
                <a:off x="5554080" y="5710680"/>
                <a:ext cx="194400" cy="1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 rot="17700000">
                <a:off x="5579640" y="5670000"/>
                <a:ext cx="136080" cy="192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flipV="1" rot="12300000">
                <a:off x="5610960" y="5721840"/>
                <a:ext cx="14184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877120" y="4526280"/>
              <a:ext cx="160560" cy="149400"/>
            </a:xfrm>
            <a:custGeom>
              <a:avLst/>
              <a:gdLst/>
              <a:ahLst/>
              <a:rect l="l" t="t" r="r" b="b"/>
              <a:pathLst>
                <a:path w="285" h="375">
                  <a:moveTo>
                    <a:pt x="0" y="0"/>
                  </a:moveTo>
                  <a:lnTo>
                    <a:pt x="0" y="375"/>
                  </a:lnTo>
                  <a:lnTo>
                    <a:pt x="285" y="90"/>
                  </a:lnTo>
                </a:path>
              </a:pathLst>
            </a:custGeom>
            <a:noFill/>
            <a:ln w="93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35000" y="5577480"/>
              <a:ext cx="159840" cy="149760"/>
            </a:xfrm>
            <a:custGeom>
              <a:avLst/>
              <a:gdLst/>
              <a:ahLst/>
              <a:rect l="l" t="t" r="r" b="b"/>
              <a:pathLst>
                <a:path w="285" h="375">
                  <a:moveTo>
                    <a:pt x="0" y="0"/>
                  </a:moveTo>
                  <a:lnTo>
                    <a:pt x="0" y="375"/>
                  </a:lnTo>
                  <a:lnTo>
                    <a:pt x="285" y="90"/>
                  </a:lnTo>
                </a:path>
              </a:pathLst>
            </a:custGeom>
            <a:noFill/>
            <a:ln w="93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86160" y="5715000"/>
              <a:ext cx="202320" cy="143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08680" y="5864040"/>
              <a:ext cx="60732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" rIns="54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ragg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66160" y="5864040"/>
              <a:ext cx="60732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" rIns="54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t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13480" y="5875920"/>
              <a:ext cx="60732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" rIns="54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ush-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92520" y="3904920"/>
              <a:ext cx="1071720" cy="17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cave contou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3239640" y="4060440"/>
              <a:ext cx="151560" cy="28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 rot="1500000">
              <a:off x="4806360" y="4551120"/>
              <a:ext cx="248400" cy="10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4800960" y="4484520"/>
              <a:ext cx="267840" cy="201600"/>
              <a:chOff x="4800960" y="4484520"/>
              <a:chExt cx="267840" cy="201600"/>
            </a:xfrm>
          </p:grpSpPr>
          <p:sp>
            <p:nvSpPr>
              <p:cNvPr id="140" name=""/>
              <p:cNvSpPr/>
              <p:nvPr/>
            </p:nvSpPr>
            <p:spPr>
              <a:xfrm flipH="1" flipV="1" rot="17700000">
                <a:off x="4881600" y="4461120"/>
                <a:ext cx="106560" cy="24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 rot="12300000">
                <a:off x="4867200" y="4570560"/>
                <a:ext cx="180720" cy="8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787720" y="3869280"/>
              <a:ext cx="1071000" cy="17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yer thicknes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057720" y="4035960"/>
              <a:ext cx="27792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57200" y="4419720"/>
            <a:ext cx="160020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99cc00"/>
                </a:solidFill>
                <a:latin typeface="Times New Roman"/>
              </a:rPr>
              <a:t>Trowel path planning and nozzle control around concave corn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05740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i="1" lang="en-US" sz="1300" spc="-1" strike="noStrike">
                <a:solidFill>
                  <a:srgbClr val="99cc00"/>
                </a:solidFill>
                <a:latin typeface="Times New Roman"/>
              </a:rPr>
              <a:t>Trowel path planning and nozzle control around sharp convex corn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438280" y="1219320"/>
            <a:ext cx="5181840" cy="2209680"/>
            <a:chOff x="2438280" y="1219320"/>
            <a:chExt cx="5181840" cy="2209680"/>
          </a:xfrm>
        </p:grpSpPr>
        <p:sp>
          <p:nvSpPr>
            <p:cNvPr id="147" name=""/>
            <p:cNvSpPr/>
            <p:nvPr/>
          </p:nvSpPr>
          <p:spPr>
            <a:xfrm>
              <a:off x="2438280" y="1219320"/>
              <a:ext cx="5181840" cy="2209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802240" y="1372680"/>
              <a:ext cx="4462200" cy="1953000"/>
              <a:chOff x="2802240" y="1372680"/>
              <a:chExt cx="4462200" cy="1953000"/>
            </a:xfrm>
          </p:grpSpPr>
          <p:sp>
            <p:nvSpPr>
              <p:cNvPr id="149" name=""/>
              <p:cNvSpPr/>
              <p:nvPr/>
            </p:nvSpPr>
            <p:spPr>
              <a:xfrm>
                <a:off x="2997000" y="1661040"/>
                <a:ext cx="660240" cy="283680"/>
              </a:xfrm>
              <a:custGeom>
                <a:avLst/>
                <a:gdLst/>
                <a:ahLst/>
                <a:rect l="l" t="t" r="r" b="b"/>
                <a:pathLst>
                  <a:path w="1170" h="780">
                    <a:moveTo>
                      <a:pt x="0" y="780"/>
                    </a:moveTo>
                    <a:lnTo>
                      <a:pt x="1170" y="780"/>
                    </a:lnTo>
                    <a:lnTo>
                      <a:pt x="3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46280" y="1860840"/>
                <a:ext cx="130680" cy="842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81640" y="1861920"/>
                <a:ext cx="130680" cy="8352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06040" y="1944720"/>
                <a:ext cx="261720" cy="518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74200" y="1661760"/>
                <a:ext cx="660240" cy="283680"/>
              </a:xfrm>
              <a:custGeom>
                <a:avLst/>
                <a:gdLst/>
                <a:ahLst/>
                <a:rect l="l" t="t" r="r" b="b"/>
                <a:pathLst>
                  <a:path w="1170" h="780">
                    <a:moveTo>
                      <a:pt x="0" y="780"/>
                    </a:moveTo>
                    <a:lnTo>
                      <a:pt x="1170" y="780"/>
                    </a:lnTo>
                    <a:lnTo>
                      <a:pt x="3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640400" y="1860480"/>
                <a:ext cx="129960" cy="846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8900000">
                <a:off x="4733280" y="1938600"/>
                <a:ext cx="262800" cy="518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700000">
                <a:off x="4787280" y="1823400"/>
                <a:ext cx="73440" cy="14688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66800" y="1661760"/>
                <a:ext cx="660240" cy="283680"/>
              </a:xfrm>
              <a:custGeom>
                <a:avLst/>
                <a:gdLst/>
                <a:ahLst/>
                <a:rect l="l" t="t" r="r" b="b"/>
                <a:pathLst>
                  <a:path w="1170" h="780">
                    <a:moveTo>
                      <a:pt x="0" y="780"/>
                    </a:moveTo>
                    <a:lnTo>
                      <a:pt x="1170" y="780"/>
                    </a:lnTo>
                    <a:lnTo>
                      <a:pt x="3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6200000">
                <a:off x="5889240" y="1897560"/>
                <a:ext cx="169560" cy="795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15360" y="1860480"/>
                <a:ext cx="130680" cy="846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5833080" y="1850400"/>
                <a:ext cx="97200" cy="1044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92520" y="1661760"/>
                <a:ext cx="660240" cy="283680"/>
              </a:xfrm>
              <a:custGeom>
                <a:avLst/>
                <a:gdLst/>
                <a:ahLst/>
                <a:rect l="l" t="t" r="r" b="b"/>
                <a:pathLst>
                  <a:path w="1170" h="780">
                    <a:moveTo>
                      <a:pt x="0" y="780"/>
                    </a:moveTo>
                    <a:lnTo>
                      <a:pt x="1170" y="780"/>
                    </a:lnTo>
                    <a:lnTo>
                      <a:pt x="3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849720" y="1866240"/>
                <a:ext cx="114120" cy="939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8600000">
                <a:off x="6967440" y="1870920"/>
                <a:ext cx="63360" cy="1623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2900000">
                <a:off x="6934680" y="1889640"/>
                <a:ext cx="262800" cy="518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039840" y="2654280"/>
                <a:ext cx="660240" cy="283680"/>
              </a:xfrm>
              <a:custGeom>
                <a:avLst/>
                <a:gdLst/>
                <a:ahLst/>
                <a:rect l="l" t="t" r="r" b="b"/>
                <a:pathLst>
                  <a:path w="1170" h="780">
                    <a:moveTo>
                      <a:pt x="0" y="780"/>
                    </a:moveTo>
                    <a:lnTo>
                      <a:pt x="1170" y="780"/>
                    </a:lnTo>
                    <a:lnTo>
                      <a:pt x="3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71840" y="2849040"/>
                <a:ext cx="129960" cy="842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41400" y="2882160"/>
                <a:ext cx="81000" cy="52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547800" y="2937960"/>
                <a:ext cx="262800" cy="518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76080" y="2660040"/>
                <a:ext cx="660240" cy="283680"/>
              </a:xfrm>
              <a:custGeom>
                <a:avLst/>
                <a:gdLst/>
                <a:ahLst/>
                <a:rect l="l" t="t" r="r" b="b"/>
                <a:pathLst>
                  <a:path w="1170" h="780">
                    <a:moveTo>
                      <a:pt x="0" y="780"/>
                    </a:moveTo>
                    <a:lnTo>
                      <a:pt x="1170" y="780"/>
                    </a:lnTo>
                    <a:lnTo>
                      <a:pt x="3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900000">
                <a:off x="4817880" y="2937600"/>
                <a:ext cx="262800" cy="518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6360" y="2854800"/>
                <a:ext cx="130680" cy="8352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77640" y="2887560"/>
                <a:ext cx="81000" cy="52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427360" y="2664720"/>
                <a:ext cx="660240" cy="283680"/>
              </a:xfrm>
              <a:custGeom>
                <a:avLst/>
                <a:gdLst/>
                <a:ahLst/>
                <a:rect l="l" t="t" r="r" b="b"/>
                <a:pathLst>
                  <a:path w="1170" h="780">
                    <a:moveTo>
                      <a:pt x="0" y="780"/>
                    </a:moveTo>
                    <a:lnTo>
                      <a:pt x="1170" y="780"/>
                    </a:lnTo>
                    <a:lnTo>
                      <a:pt x="3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6200000">
                <a:off x="6041520" y="2907720"/>
                <a:ext cx="169560" cy="795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76640" y="2860200"/>
                <a:ext cx="129960" cy="8352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03360" y="2898360"/>
                <a:ext cx="81000" cy="52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85400" y="2648520"/>
                <a:ext cx="660240" cy="283680"/>
              </a:xfrm>
              <a:custGeom>
                <a:avLst/>
                <a:gdLst/>
                <a:ahLst/>
                <a:rect l="l" t="t" r="r" b="b"/>
                <a:pathLst>
                  <a:path w="1170" h="780">
                    <a:moveTo>
                      <a:pt x="0" y="780"/>
                    </a:moveTo>
                    <a:lnTo>
                      <a:pt x="1170" y="780"/>
                    </a:lnTo>
                    <a:lnTo>
                      <a:pt x="3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8600000">
                <a:off x="6930000" y="2818080"/>
                <a:ext cx="72720" cy="1461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019280" y="2887560"/>
                <a:ext cx="81000" cy="52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2900000">
                <a:off x="7011000" y="2867400"/>
                <a:ext cx="262080" cy="518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852720" y="2201040"/>
                <a:ext cx="2116440" cy="16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320" rIns="4932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) push-in at steady extrusion speed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869640" y="3156480"/>
                <a:ext cx="2268720" cy="16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320" rIns="4932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) push-in at reduced extrusion speed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5638680" y="1584000"/>
                <a:ext cx="330480" cy="26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232960" y="1480320"/>
                <a:ext cx="668160" cy="114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" rIns="504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ide trowe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802240" y="1372680"/>
                <a:ext cx="796320" cy="22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" rIns="5040" tIns="5040" bIns="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Previous deposi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717360" y="1372680"/>
                <a:ext cx="719640" cy="24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" rIns="5040" tIns="5040" bIns="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urrent deposi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3327480" y="1611720"/>
                <a:ext cx="186120" cy="23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3700080" y="1606320"/>
                <a:ext cx="270720" cy="26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5400000">
                <a:off x="3555000" y="1747800"/>
                <a:ext cx="260640" cy="40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5400000">
                <a:off x="3622680" y="2730240"/>
                <a:ext cx="260640" cy="40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zzle path plann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905120" y="1523880"/>
            <a:ext cx="6858000" cy="4724640"/>
            <a:chOff x="1905120" y="1523880"/>
            <a:chExt cx="6858000" cy="472464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905120" y="1523880"/>
              <a:ext cx="3429000" cy="2332800"/>
            </a:xfrm>
            <a:prstGeom prst="rect">
              <a:avLst/>
            </a:prstGeom>
            <a:ln w="38160">
              <a:solidFill>
                <a:srgbClr val="c0c0c0"/>
              </a:solidFill>
              <a:miter/>
            </a:ln>
          </p:spPr>
        </p:pic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3429000" cy="2332080"/>
            </a:xfrm>
            <a:prstGeom prst="rect">
              <a:avLst/>
            </a:prstGeom>
            <a:ln w="38160">
              <a:solidFill>
                <a:srgbClr val="c0c0c0"/>
              </a:solidFill>
              <a:miter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1905120" y="3825360"/>
              <a:ext cx="3560760" cy="2423160"/>
            </a:xfrm>
            <a:prstGeom prst="rect">
              <a:avLst/>
            </a:prstGeom>
            <a:ln w="38160">
              <a:solidFill>
                <a:srgbClr val="c0c0c0"/>
              </a:solidFill>
              <a:miter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5334120" y="3822840"/>
              <a:ext cx="3429000" cy="2425680"/>
            </a:xfrm>
            <a:prstGeom prst="rect">
              <a:avLst/>
            </a:prstGeom>
            <a:ln w="38160">
              <a:solidFill>
                <a:srgbClr val="c0c0c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" y="990720"/>
            <a:ext cx="8991720" cy="5333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ynamic Contro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29680" y="1523520"/>
            <a:ext cx="8914320" cy="4725000"/>
            <a:chOff x="229680" y="1523520"/>
            <a:chExt cx="8914320" cy="4725000"/>
          </a:xfrm>
        </p:grpSpPr>
        <p:sp>
          <p:nvSpPr>
            <p:cNvPr id="200" name=""/>
            <p:cNvSpPr/>
            <p:nvPr/>
          </p:nvSpPr>
          <p:spPr>
            <a:xfrm>
              <a:off x="762120" y="2362320"/>
              <a:ext cx="1371600" cy="457200"/>
            </a:xfrm>
            <a:prstGeom prst="rect">
              <a:avLst/>
            </a:prstGeom>
            <a:solidFill>
              <a:srgbClr val="faa4b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ial 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u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33920" y="2286000"/>
              <a:ext cx="1218960" cy="533520"/>
            </a:xfrm>
            <a:prstGeom prst="rect">
              <a:avLst/>
            </a:prstGeom>
            <a:solidFill>
              <a:srgbClr val="d9c4d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ow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95480" y="5715000"/>
              <a:ext cx="1600200" cy="533520"/>
            </a:xfrm>
            <a:prstGeom prst="rect">
              <a:avLst/>
            </a:prstGeom>
            <a:solidFill>
              <a:srgbClr val="e3bbc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sition Sens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2520" y="4129200"/>
              <a:ext cx="1523880" cy="533160"/>
            </a:xfrm>
            <a:prstGeom prst="rect">
              <a:avLst/>
            </a:prstGeom>
            <a:solidFill>
              <a:srgbClr val="d8d7c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zzle Actu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76520" y="4129200"/>
              <a:ext cx="1523880" cy="533160"/>
            </a:xfrm>
            <a:prstGeom prst="rect">
              <a:avLst/>
            </a:prstGeom>
            <a:solidFill>
              <a:srgbClr val="d8d7c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zzle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14800" y="4952880"/>
              <a:ext cx="1219320" cy="533520"/>
            </a:xfrm>
            <a:prstGeom prst="rect">
              <a:avLst/>
            </a:prstGeom>
            <a:solidFill>
              <a:srgbClr val="e3bbc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bot Whe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33920" y="1676520"/>
              <a:ext cx="1218960" cy="533160"/>
            </a:xfrm>
            <a:prstGeom prst="rect">
              <a:avLst/>
            </a:prstGeom>
            <a:solidFill>
              <a:srgbClr val="d9c4d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ow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71800" y="24382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19320" y="42670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90920" y="3200400"/>
              <a:ext cx="1828800" cy="533520"/>
            </a:xfrm>
            <a:prstGeom prst="rect">
              <a:avLst/>
            </a:prstGeom>
            <a:solidFill>
              <a:srgbClr val="d8d7c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sition Se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0880" y="4419720"/>
              <a:ext cx="8384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34120" y="5181480"/>
              <a:ext cx="990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6400" y="4395960"/>
              <a:ext cx="838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2590920"/>
              <a:ext cx="1371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0400" y="2590920"/>
              <a:ext cx="5335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33720" y="2590920"/>
              <a:ext cx="838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95480" y="5181480"/>
              <a:ext cx="12193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00400" y="4395960"/>
              <a:ext cx="7621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01000" y="2666880"/>
              <a:ext cx="6094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01000" y="4800600"/>
              <a:ext cx="6094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1000" y="4038480"/>
              <a:ext cx="9144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47920" y="439596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495680" y="6019920"/>
              <a:ext cx="3733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29600" y="4800600"/>
              <a:ext cx="0" cy="12193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4" name=""/>
            <p:cNvCxnSpPr>
              <a:stCxn id="202" idx="1"/>
            </p:cNvCxnSpPr>
            <p:nvPr/>
          </p:nvCxnSpPr>
          <p:spPr>
            <a:xfrm rot="10800000">
              <a:off x="1666080" y="5333400"/>
              <a:ext cx="1220040" cy="648360"/>
            </a:xfrm>
            <a:prstGeom prst="bentConnector3">
              <a:avLst>
                <a:gd name="adj1" fmla="val 117030"/>
              </a:avLst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/>
            <p:nvPr/>
          </p:nvCxnSpPr>
          <p:spPr>
            <a:xfrm>
              <a:off x="609480" y="4419360"/>
              <a:ext cx="1067760" cy="648360"/>
            </a:xfrm>
            <a:prstGeom prst="bentConnector3">
              <a:avLst>
                <a:gd name="adj1" fmla="val 2057"/>
              </a:avLst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09" idx="1"/>
              <a:endCxn id="208" idx="0"/>
            </p:cNvCxnSpPr>
            <p:nvPr/>
          </p:nvCxnSpPr>
          <p:spPr>
            <a:xfrm flipV="1" rot="10800000">
              <a:off x="1332720" y="3466800"/>
              <a:ext cx="1258200" cy="800640"/>
            </a:xfrm>
            <a:prstGeom prst="bentConnector2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endCxn id="209" idx="3"/>
            </p:cNvCxnSpPr>
            <p:nvPr/>
          </p:nvCxnSpPr>
          <p:spPr>
            <a:xfrm rot="10800000">
              <a:off x="4428360" y="3466440"/>
              <a:ext cx="4115520" cy="572040"/>
            </a:xfrm>
            <a:prstGeom prst="bentConnector3">
              <a:avLst>
                <a:gd name="adj1" fmla="val 7899"/>
              </a:avLst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>
              <a:off x="6324480" y="2209680"/>
              <a:ext cx="1676520" cy="3733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3080" y="3809880"/>
              <a:ext cx="1219320" cy="19051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ynam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3080" y="2362320"/>
              <a:ext cx="1219320" cy="53316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ial 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ynam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55160" y="302256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ynam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2" name=""/>
            <p:cNvCxnSpPr>
              <a:endCxn id="206" idx="3"/>
            </p:cNvCxnSpPr>
            <p:nvPr/>
          </p:nvCxnSpPr>
          <p:spPr>
            <a:xfrm rot="10800000">
              <a:off x="4961880" y="1942560"/>
              <a:ext cx="3353400" cy="724320"/>
            </a:xfrm>
            <a:prstGeom prst="bentConnector3">
              <a:avLst>
                <a:gd name="adj1" fmla="val 182"/>
              </a:avLst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33" name=""/>
            <p:cNvSpPr/>
            <p:nvPr/>
          </p:nvSpPr>
          <p:spPr>
            <a:xfrm flipV="1">
              <a:off x="8763120" y="1523520"/>
              <a:ext cx="0" cy="2514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57200" y="1523880"/>
              <a:ext cx="8305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1523880"/>
              <a:ext cx="0" cy="1067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2590920"/>
              <a:ext cx="304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7" name=""/>
            <p:cNvCxnSpPr>
              <a:endCxn id="207" idx="0"/>
            </p:cNvCxnSpPr>
            <p:nvPr/>
          </p:nvCxnSpPr>
          <p:spPr>
            <a:xfrm flipV="1" rot="10800000">
              <a:off x="3085560" y="1971360"/>
              <a:ext cx="648360" cy="457920"/>
            </a:xfrm>
            <a:prstGeom prst="bentConnector2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38" name=""/>
            <p:cNvSpPr/>
            <p:nvPr/>
          </p:nvSpPr>
          <p:spPr>
            <a:xfrm>
              <a:off x="2134080" y="2003400"/>
              <a:ext cx="758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45360" y="3962520"/>
              <a:ext cx="998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zz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ition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31760" y="477504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n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87840" y="477504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he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r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86400" y="3936960"/>
              <a:ext cx="682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zz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9680" y="3962520"/>
              <a:ext cx="1104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mand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1360" y="2743200"/>
              <a:ext cx="75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67600" y="24890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96360" y="38606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15120" y="43178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5160" y="21081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76520" y="4952880"/>
              <a:ext cx="1295280" cy="533520"/>
            </a:xfrm>
            <a:prstGeom prst="rect">
              <a:avLst/>
            </a:prstGeom>
            <a:solidFill>
              <a:srgbClr val="e3bbc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ntry Mo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286000" y="990720"/>
            <a:ext cx="5257800" cy="5638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Visual inspection Contour Craft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378160" y="1066680"/>
            <a:ext cx="5075280" cy="54864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523880" y="-650880"/>
            <a:ext cx="4572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igure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rcRect l="24068" t="15781" r="27061" b="13851"/>
          <a:stretch/>
        </p:blipFill>
        <p:spPr>
          <a:xfrm>
            <a:off x="2057400" y="228600"/>
            <a:ext cx="7086600" cy="6400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52280" y="236232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The Integrated 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1:21:45Z</dcterms:created>
  <dc:creator> Berok</dc:creator>
  <dc:description/>
  <dc:language>en-US</dc:language>
  <cp:lastModifiedBy> </cp:lastModifiedBy>
  <dcterms:modified xsi:type="dcterms:W3CDTF">2005-07-01T06:28:10Z</dcterms:modified>
  <cp:revision>4</cp:revision>
  <dc:subject/>
  <dc:title>Slide 1</dc:title>
</cp:coreProperties>
</file>